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f87b7"/>
                </a:solidFill>
                <a:latin typeface="Calibri"/>
              </a:rPr>
              <a:t>Click to move the slide</a:t>
            </a:r>
            <a:endParaRPr b="0" lang="en-US" sz="5000" spc="-1" strike="noStrike">
              <a:solidFill>
                <a:srgbClr val="9f87b7"/>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1D866-B69A-4313-B930-E33D797D02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who.int/violence_"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90B83-4C49-419C-9240-6E55CB2656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4CA6D-E0C0-4FE6-8BBE-0465AC2BA9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1C7B8-7776-4F61-BC72-01AF3EC25E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 participants that the definition of rape is " physically forced or otherwise coerced penetration– even if slight – of the vulva or anus, using a penis, other body parts or an object." and while this may not be the exact legal definition in their country, health care providers should  provide care regardless of definition if someone requires it and wants it. Definition: </a:t>
            </a:r>
            <a:r>
              <a:rPr b="0" lang="en-US" sz="1200" spc="-1" strike="noStrike" u="sng">
                <a:solidFill>
                  <a:srgbClr val="009999"/>
                </a:solidFill>
                <a:uFillTx/>
                <a:latin typeface="Arial"/>
                <a:hlinkClick r:id="rId1"/>
              </a:rPr>
              <a:t>http://www.who.int/violence_</a:t>
            </a:r>
            <a:r>
              <a:rPr b="1" lang="en-US" sz="1200" spc="-1" strike="noStrike" u="sng">
                <a:solidFill>
                  <a:srgbClr val="000000"/>
                </a:solidFill>
                <a:uFillTx/>
                <a:latin typeface="Arial"/>
              </a:rPr>
              <a:t>injury_prevention/violence/world_report/chapters/en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cussion points</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gal definitions for gender-based violence differ from country-to-country. But all definitions agree that rape is an act of sexual intercourse without con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s are: rape of adult female, rape of a minor, gang rape, marital rape, male ra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CEC8F-D797-4CFA-B95D-E08FDCADCA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82A4-828A-429E-9F0D-911AB60AF3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lth care providers are not police or judges. We are there to offer and provide information, medical care and support and can give our expert medical opinion on injury and disease. These services include providing sufficient information to the survivor about the procedures (examination), treatments and risks of disease and treatments so the survivor can make an informed cho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points: </a:t>
            </a:r>
            <a:r>
              <a:rPr b="0" lang="en-GB" sz="1200" spc="-1" strike="noStrike">
                <a:solidFill>
                  <a:srgbClr val="000000"/>
                </a:solidFill>
                <a:latin typeface="Arial"/>
              </a:rPr>
              <a:t>These services are not all the responsibility of the health care provider, but it is important for a health care provider to understand that caring for a survivor is not only medical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6729-7544-4114-89FA-500888A40E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only a list of what needs to be available at the clinic; what is needed will depend on when the survivor presents after the incident and what she consents to. Psychosocial support may not be available at a clinic, but is listed here because it is crucial to the care of a survivor. If there are no specific services available and these are needed, the survivor should be refer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CB12-83A3-40C5-A46A-13F058580D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4FF71-BDFE-4A8A-B5DB-B8D9F54A73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84FD-FB3F-4358-B87E-6BF2891D3F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with participants what this could mean in their clinic. What population does their clinic normally serve? What is the triage process? How would they prepare their clinic to ensure survivors will come? How could they ensure confidentiality and priv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95C3-7B48-4F43-B2F7-3337633353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list of minimum requirements in WHO/UNHCR manual page 7-8.</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52BEC-3489-4385-9C81-3B5DCF10B8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participants were trained in the general &amp; psychosocial modules, ask them to recall the community mapping exercise from the “general &amp; psychosocial” modules (if not you may want to include it after this discussion). Discuss what kinds of support groups may be appropriate: women’s groups, survivor support groups, economic support groups, safe spaces (if available), et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BAA8E-263D-48DC-B73E-488E898A7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E7455-63AC-4D9C-817A-E8A146EBF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B6B57-505F-4401-8AE6-29D9BB637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DC585-0A46-450F-801E-468C86F74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12485-6E51-4CEF-9C72-70EF612859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DA395-CAA4-4A08-99D0-BBD778699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B85AC-A2DF-4C68-86A7-18648FFCA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B4FA9-99D6-4C0E-A1B9-CC06993A8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59160-88C8-4B7A-9199-A3EBF0A79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1552F-0E62-4F42-ABD9-AFCB806E1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D0295-BEB0-4A7D-83D4-ACFE96653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12582-FA50-4007-99AC-F272B6644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10B09-9A4E-46FC-B613-A4BE7D681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4B5EA-A6A9-43B1-8E11-271645083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76B91-E183-4241-BD2E-7901A60EB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0CC84-2FA9-48CD-9AA5-2D232C713C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302920-C224-4FBB-805E-E61A74F59D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6E016A-EF49-4BD1-AEFD-06A10DA92E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A3EAB9-D9CB-4603-820E-98878C80F2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A16C30-FFA5-4B39-997F-3AD27A8A09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299F0E-C4D5-4FAF-9C67-FAD20D0C63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7C3F80-972A-4BAF-9FD2-C9D23C4780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2CF91-F6A1-4C47-BB68-206BD12BC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38C03F-EA6F-4275-A3D0-3753697E51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61D4ED-D1EF-4234-97E6-8928313564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BBCA04-9887-4915-8E69-5CC1CC465D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99215D-4F67-435E-BB16-022FE54165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3DB960-61C4-4EDE-BD0B-B24C4BE847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D8E609-7587-4908-BDEA-D6C6B234AB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D412E6-3762-4427-A590-B454D8C50F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773E17-526F-491E-9837-20F764031D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3EA31B-E41D-4AAE-A696-B5CF2D56BB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717FCB-DF81-4582-B205-DFF3A017ED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19B25-187A-49B2-B986-6B60591AC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80ADC1-968C-49D9-B2D1-E2AA79DC54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FA605B-A1D3-403D-80E3-38DB6108FD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8E2F08-E5A8-4B99-AD90-39B55991FE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3D2EFD-1F40-475F-97BF-5F0C74D7D6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8D1AFC-63D5-49F2-A26A-E66EBEF20D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E28D44-A052-4318-BCED-0086E6E345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70DDBF-2F43-458F-B791-A12558F0BB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40B025-F066-43F5-8F27-E6A59D6BEA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37C8E8-9CB8-44F8-8F46-D0BCBC284A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4BA32-3F47-497B-9EA4-1B01B21A1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0A2AA-F58B-4501-8282-BD5D02F99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E0B02-2AFD-4E3D-A08F-BE65EF28F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0A4FD-87B3-4BB4-BB5B-15AB79401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F7A26-BEA7-4A8E-B523-8379C25EF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a49cab">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c4bac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a2d97"/>
                </a:solidFill>
                <a:latin typeface="Calibri"/>
              </a:rPr>
              <a:t>Click to edit the title text format</a:t>
            </a:r>
            <a:endParaRPr b="0" lang="en-US" sz="5000" spc="-1" strike="noStrike">
              <a:solidFill>
                <a:srgbClr val="6a2d97"/>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dfd7e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2a9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53CB-FC4B-4AFA-88EE-BADA07AB8311}" type="datetime">
              <a:rPr b="0" lang="en-US" sz="1200" spc="-1" strike="noStrike">
                <a:solidFill>
                  <a:srgbClr val="652a90"/>
                </a:solidFill>
                <a:latin typeface="Times New Roman"/>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2a9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AFEF-8523-4604-B0B2-05B98D25A79D}"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a49cab">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c4bac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f87b7"/>
                </a:solidFill>
                <a:latin typeface="Calibri"/>
              </a:rPr>
              <a:t>Click to edit the title text format</a:t>
            </a:r>
            <a:endParaRPr b="0" lang="en-US" sz="5000" spc="-1" strike="noStrike">
              <a:solidFill>
                <a:srgbClr val="9f87b7"/>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dfd7e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81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5232-B368-45D2-8DB0-F43667CA3441}" type="datetime">
              <a:rPr b="0" lang="en-US" sz="1200" spc="-1" strike="noStrike">
                <a:solidFill>
                  <a:srgbClr val="9881af"/>
                </a:solidFill>
                <a:latin typeface="Times New Roman"/>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81a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9CDC3-07E4-4C93-9C1B-408FF5AD4A96}" type="slidenum">
              <a:rPr b="0" lang="en-US" sz="1200" spc="-1" strike="noStrike">
                <a:solidFill>
                  <a:srgbClr val="9881a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a49cab">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c4bac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f87b7"/>
                </a:solidFill>
                <a:latin typeface="Calibri"/>
              </a:rPr>
              <a:t>Click to edit the title text format</a:t>
            </a:r>
            <a:endParaRPr b="0" lang="en-US" sz="5000" spc="-1" strike="noStrike">
              <a:solidFill>
                <a:srgbClr val="9f87b7"/>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dfd7e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81a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851B-C48E-4C60-8403-22E7D1B824F6}" type="datetime">
              <a:rPr b="0" lang="en-US" sz="1200" spc="-1" strike="noStrike">
                <a:solidFill>
                  <a:srgbClr val="9881af"/>
                </a:solidFill>
                <a:latin typeface="Times New Roman"/>
              </a:rPr>
              <a:t>07/29/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81a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9282-B9D1-4F48-81DC-02EC9E3EB577}" type="slidenum">
              <a:rPr b="0" lang="en-US" sz="1200" spc="-1" strike="noStrike">
                <a:solidFill>
                  <a:srgbClr val="9881a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Freeform 15"/>
          <p:cNvSpPr/>
          <p:nvPr/>
        </p:nvSpPr>
        <p:spPr>
          <a:xfrm flipV="1">
            <a:off x="-9000" y="5815440"/>
            <a:ext cx="9162720" cy="1041480"/>
          </a:xfrm>
          <a:prstGeom prst="pie">
            <a:avLst/>
          </a:prstGeom>
          <a:gradFill rotWithShape="0">
            <a:gsLst>
              <a:gs pos="0">
                <a:srgbClr val="a49cab">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c4bac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a2d97"/>
                </a:solidFill>
                <a:latin typeface="Calibri"/>
              </a:rPr>
              <a:t>Click to edit the title text format</a:t>
            </a:r>
            <a:endParaRPr b="0" lang="en-US" sz="5000" spc="-1" strike="noStrike">
              <a:solidFill>
                <a:srgbClr val="6a2d97"/>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dfd7e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2a9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83F8-4B15-427C-9976-F3AB95376973}" type="datetime">
              <a:rPr b="0" lang="en-US" sz="1200" spc="-1" strike="noStrike">
                <a:solidFill>
                  <a:srgbClr val="652a90"/>
                </a:solidFill>
                <a:latin typeface="Times New Roman"/>
              </a:rPr>
              <a:t>07/29/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2a9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DC7F-AEF6-4D75-AEB0-9662C1295E7A}"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SPONSIBILITIES OF A HEALTH CARE PROVIDER</a:t>
            </a: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533520"/>
            <a:ext cx="8305920" cy="1295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a2d97"/>
                </a:solidFill>
                <a:latin typeface="Times New Roman"/>
              </a:rPr>
              <a:t>What can you do if these services are not yet available in your area?</a:t>
            </a:r>
            <a:endParaRPr b="0" lang="en-US" sz="4000" spc="-1" strike="noStrike">
              <a:solidFill>
                <a:srgbClr val="6a2d97"/>
              </a:solidFill>
              <a:latin typeface="Calibri"/>
            </a:endParaRPr>
          </a:p>
        </p:txBody>
      </p:sp>
      <p:sp>
        <p:nvSpPr>
          <p:cNvPr id="230" name=""/>
          <p:cNvSpPr txBox="1"/>
          <p:nvPr/>
        </p:nvSpPr>
        <p:spPr>
          <a:xfrm>
            <a:off x="380880" y="2332080"/>
            <a:ext cx="8229600" cy="452592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ocacy</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rals to neighboring communities</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ing community to provide the service</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the service in your health facility</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ideas?</a:t>
            </a:r>
            <a:endParaRPr b="0" lang="en-US" sz="3200" spc="-1" strike="noStrike">
              <a:solidFill>
                <a:srgbClr val="000000"/>
              </a:solidFill>
              <a:latin typeface="Constantia"/>
            </a:endParaRPr>
          </a:p>
        </p:txBody>
      </p:sp>
      <p:sp>
        <p:nvSpPr>
          <p:cNvPr id="23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10FC8-3EC2-4EB2-A202-EF36E6A02D5F}"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18288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a2d97"/>
                </a:solidFill>
                <a:latin typeface="Times New Roman"/>
              </a:rPr>
              <a:t>What does the public need to know to effectively use these services?</a:t>
            </a:r>
            <a:br>
              <a:rPr sz="3200"/>
            </a:br>
            <a:endParaRPr b="0" lang="en-US" sz="3200" spc="-1" strike="noStrike">
              <a:solidFill>
                <a:srgbClr val="6a2d97"/>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fontScale="95000"/>
          </a:bodyPr>
          <a:p>
            <a:pPr marL="578880" indent="-578880">
              <a:lnSpc>
                <a:spcPct val="90000"/>
              </a:lnSpc>
              <a:spcBef>
                <a:spcPts val="7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hat is rape**</a:t>
            </a:r>
            <a:endParaRPr b="0" lang="en-US" sz="3000" spc="-1" strike="noStrike">
              <a:solidFill>
                <a:srgbClr val="000000"/>
              </a:solidFill>
              <a:latin typeface="Constantia"/>
            </a:endParaRPr>
          </a:p>
          <a:p>
            <a:pPr marL="578880" indent="-578880">
              <a:lnSpc>
                <a:spcPct val="90000"/>
              </a:lnSpc>
              <a:spcBef>
                <a:spcPts val="7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hat services are available for survivors (both acute and long-term) </a:t>
            </a:r>
            <a:endParaRPr b="0" lang="en-US" sz="3000" spc="-1" strike="noStrike">
              <a:solidFill>
                <a:srgbClr val="000000"/>
              </a:solidFill>
              <a:latin typeface="Constantia"/>
            </a:endParaRPr>
          </a:p>
          <a:p>
            <a:pPr marL="578880" indent="-578880">
              <a:lnSpc>
                <a:spcPct val="90000"/>
              </a:lnSpc>
              <a:spcBef>
                <a:spcPts val="7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hy survivors will benefit from seeking medical care</a:t>
            </a:r>
            <a:endParaRPr b="0" lang="en-US" sz="3000" spc="-1" strike="noStrike">
              <a:solidFill>
                <a:srgbClr val="000000"/>
              </a:solidFill>
              <a:latin typeface="Constantia"/>
            </a:endParaRPr>
          </a:p>
          <a:p>
            <a:pPr marL="578880" indent="-578880">
              <a:lnSpc>
                <a:spcPct val="90000"/>
              </a:lnSpc>
              <a:spcBef>
                <a:spcPts val="7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here survivors can go for services</a:t>
            </a:r>
            <a:endParaRPr b="0" lang="en-US" sz="3000" spc="-1" strike="noStrike">
              <a:solidFill>
                <a:srgbClr val="000000"/>
              </a:solidFill>
              <a:latin typeface="Constantia"/>
            </a:endParaRPr>
          </a:p>
          <a:p>
            <a:pPr marL="578880" indent="-578880">
              <a:lnSpc>
                <a:spcPct val="90000"/>
              </a:lnSpc>
              <a:spcBef>
                <a:spcPts val="7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hen the services are available </a:t>
            </a:r>
            <a:endParaRPr b="0" lang="en-US" sz="3000" spc="-1" strike="noStrike">
              <a:solidFill>
                <a:srgbClr val="000000"/>
              </a:solidFill>
              <a:latin typeface="Constantia"/>
            </a:endParaRPr>
          </a:p>
          <a:p>
            <a:pPr marL="578880" indent="-578880">
              <a:lnSpc>
                <a:spcPct val="90000"/>
              </a:lnSpc>
              <a:spcBef>
                <a:spcPts val="7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services provided will maintain dignity, privacy, confidentiality and security of the survivor</a:t>
            </a:r>
            <a:endParaRPr b="0" lang="en-US" sz="3000" spc="-1" strike="noStrike">
              <a:solidFill>
                <a:srgbClr val="000000"/>
              </a:solidFill>
              <a:latin typeface="Constantia"/>
            </a:endParaRPr>
          </a:p>
          <a:p>
            <a:pPr marL="578880" indent="-578880">
              <a:lnSpc>
                <a:spcPct val="90000"/>
              </a:lnSpc>
              <a:spcBef>
                <a:spcPts val="7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6A0A7-F12E-4475-A284-B0418FAA2C62}"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itle 4" descr=""/>
          <p:cNvPicPr/>
          <p:nvPr/>
        </p:nvPicPr>
        <p:blipFill>
          <a:blip r:embed="rId1"/>
          <a:stretch/>
        </p:blipFill>
        <p:spPr>
          <a:xfrm>
            <a:off x="55440" y="5767560"/>
            <a:ext cx="8259840" cy="1157040"/>
          </a:xfrm>
          <a:prstGeom prst="rect">
            <a:avLst/>
          </a:prstGeom>
          <a:ln w="0">
            <a:noFill/>
          </a:ln>
        </p:spPr>
      </p:pic>
      <p:sp>
        <p:nvSpPr>
          <p:cNvPr id="2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C397-F25F-4D00-A0D4-46F28B12F465}" type="slidenum">
              <a:rPr b="0" lang="en-US" sz="1200" spc="-1" strike="noStrike">
                <a:solidFill>
                  <a:srgbClr val="9881af"/>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4320"/>
            <a:ext cx="7467480" cy="10969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a2d97"/>
                </a:solidFill>
                <a:latin typeface="Times New Roman"/>
                <a:ea typeface="Times New Roman"/>
              </a:rPr>
              <a:t>What is rape?*</a:t>
            </a:r>
            <a:endParaRPr b="0" lang="en-US" sz="3600" spc="-1" strike="noStrike">
              <a:solidFill>
                <a:srgbClr val="6a2d97"/>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 act of sexual intercourse without the survivor’s consent</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y penetration is considered rape</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Attempted rape” is any effort to rape someone that does not result in penetration</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amples…..</a:t>
            </a:r>
            <a:endParaRPr b="0" lang="en-US" sz="3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rom the UNHCR-UNFPA Clinical Management of Rape Survivors training</a:t>
            </a:r>
            <a:endParaRPr b="0" lang="en-US" sz="2000" spc="-1" strike="noStrike">
              <a:solidFill>
                <a:srgbClr val="000000"/>
              </a:solidFill>
              <a:latin typeface="Constantia"/>
            </a:endParaRPr>
          </a:p>
        </p:txBody>
      </p:sp>
      <p:sp>
        <p:nvSpPr>
          <p:cNvPr id="20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3625-1E54-4A11-AADA-F8CD805D22BA}"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467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a2d97"/>
                </a:solidFill>
                <a:latin typeface="Times New Roman"/>
              </a:rPr>
              <a:t>WHAT IS THE HEALTH CARE PROVIDER’S ROLE IN ATTENDING THE NEEDS OF THE SURVIVOR OF SEXUAL VIOLENCE?</a:t>
            </a:r>
            <a:endParaRPr b="0" lang="en-US" sz="2800" spc="-1" strike="noStrike">
              <a:solidFill>
                <a:srgbClr val="6a2d97"/>
              </a:solidFill>
              <a:latin typeface="Calibri"/>
            </a:endParaRPr>
          </a:p>
        </p:txBody>
      </p:sp>
      <p:sp>
        <p:nvSpPr>
          <p:cNvPr id="208" name=""/>
          <p:cNvSpPr txBox="1"/>
          <p:nvPr/>
        </p:nvSpPr>
        <p:spPr>
          <a:xfrm>
            <a:off x="457200" y="2209320"/>
            <a:ext cx="8229600" cy="4149720"/>
          </a:xfrm>
          <a:prstGeom prst="rect">
            <a:avLst/>
          </a:prstGeom>
          <a:noFill/>
          <a:ln w="0">
            <a:noFill/>
          </a:ln>
        </p:spPr>
        <p:txBody>
          <a:bodyPr anchor="t">
            <a:normAutofit/>
          </a:bodyPr>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 provide medical care</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 collect forensic evidence</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 refer for other care and services (depending on what the survivor needs and wants)</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nd, to provide this care in a </a:t>
            </a:r>
            <a:r>
              <a:rPr b="1" lang="en-US" sz="3000" spc="-1" strike="noStrike">
                <a:solidFill>
                  <a:srgbClr val="000000"/>
                </a:solidFill>
                <a:latin typeface="Times New Roman"/>
              </a:rPr>
              <a:t>confidential and non-judgmental manner.</a:t>
            </a:r>
            <a:endParaRPr b="0" lang="en-US" sz="3000" spc="-1" strike="noStrike">
              <a:solidFill>
                <a:srgbClr val="000000"/>
              </a:solidFill>
              <a:latin typeface="Constantia"/>
            </a:endParaRPr>
          </a:p>
          <a:p>
            <a:pPr marL="272880" indent="-27288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 is not the role of a health care provider to determine if someone was raped.</a:t>
            </a:r>
            <a:endParaRPr b="0" lang="en-US" sz="3000" spc="-1" strike="noStrike">
              <a:solidFill>
                <a:srgbClr val="000000"/>
              </a:solidFill>
              <a:latin typeface="Constantia"/>
            </a:endParaRPr>
          </a:p>
        </p:txBody>
      </p:sp>
      <p:sp>
        <p:nvSpPr>
          <p:cNvPr id="20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83A8-DE85-40A7-B481-5EAEC2C13318}"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a2d97"/>
                </a:solidFill>
                <a:latin typeface="Times New Roman"/>
                <a:ea typeface="Times New Roman"/>
              </a:rPr>
              <a:t>Care for survivors requires a multi-sectoral approach:</a:t>
            </a:r>
            <a:endParaRPr b="0" lang="en-US" sz="3600" spc="-1" strike="noStrike">
              <a:solidFill>
                <a:srgbClr val="6a2d97"/>
              </a:solidFill>
              <a:latin typeface="Calibri"/>
            </a:endParaRPr>
          </a:p>
        </p:txBody>
      </p:sp>
      <p:pic>
        <p:nvPicPr>
          <p:cNvPr id="211" name="Content Placeholder 4" descr="Multi-sectoral model.bmp"/>
          <p:cNvPicPr/>
          <p:nvPr/>
        </p:nvPicPr>
        <p:blipFill>
          <a:blip r:embed="rId1"/>
          <a:srcRect l="-5827" t="0" r="-5827" b="0"/>
          <a:stretch/>
        </p:blipFill>
        <p:spPr>
          <a:xfrm>
            <a:off x="457200" y="1935000"/>
            <a:ext cx="8229600" cy="4389480"/>
          </a:xfrm>
          <a:prstGeom prst="rect">
            <a:avLst/>
          </a:prstGeom>
          <a:ln w="0">
            <a:noFill/>
          </a:ln>
        </p:spPr>
      </p:pic>
      <p:sp>
        <p:nvSpPr>
          <p:cNvPr id="21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4F24-1C00-4A41-9707-C01D499061E3}"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a2d97"/>
                </a:solidFill>
                <a:latin typeface="Times New Roman"/>
                <a:ea typeface="Times New Roman"/>
              </a:rPr>
              <a:t>At the clinic, you should be prepared to provide:</a:t>
            </a:r>
            <a:endParaRPr b="0" lang="en-US" sz="3600" spc="-1" strike="noStrike">
              <a:solidFill>
                <a:srgbClr val="6a2d97"/>
              </a:solidFill>
              <a:latin typeface="Calibri"/>
            </a:endParaRPr>
          </a:p>
        </p:txBody>
      </p:sp>
      <p:sp>
        <p:nvSpPr>
          <p:cNvPr id="214" name=""/>
          <p:cNvSpPr txBox="1"/>
          <p:nvPr/>
        </p:nvSpPr>
        <p:spPr>
          <a:xfrm>
            <a:off x="457200" y="2133360"/>
            <a:ext cx="8229600" cy="419076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essment of need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amination and documentation of injurie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llection of forensic evidence</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eatment of injurie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sumptive treatment for STI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ventive treatment for HIV</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vention of pregnancy</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sychosocial support and follow-up</a:t>
            </a:r>
            <a:endParaRPr b="0" lang="en-US" sz="2800" spc="-1" strike="noStrike">
              <a:solidFill>
                <a:srgbClr val="000000"/>
              </a:solidFill>
              <a:latin typeface="Constantia"/>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694B0-2E03-49AA-9BEB-B38AA9320A06}"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a2d97"/>
                </a:solidFill>
                <a:latin typeface="Times New Roman"/>
              </a:rPr>
              <a:t>What do you need to consider if you are preparing to care for survivors?</a:t>
            </a:r>
            <a:endParaRPr b="0" lang="en-US" sz="3600" spc="-1" strike="noStrike">
              <a:solidFill>
                <a:srgbClr val="6a2d97"/>
              </a:solidFill>
              <a:latin typeface="Calibri"/>
            </a:endParaRPr>
          </a:p>
        </p:txBody>
      </p:sp>
      <p:sp>
        <p:nvSpPr>
          <p:cNvPr id="217" name=""/>
          <p:cNvSpPr txBox="1"/>
          <p:nvPr/>
        </p:nvSpPr>
        <p:spPr>
          <a:xfrm>
            <a:off x="685800" y="2590560"/>
            <a:ext cx="7772400" cy="4267080"/>
          </a:xfrm>
          <a:prstGeom prst="rect">
            <a:avLst/>
          </a:prstGeom>
          <a:noFill/>
          <a:ln w="0">
            <a:noFill/>
          </a:ln>
        </p:spPr>
        <p:txBody>
          <a:bodyPr anchor="t">
            <a:normAutofit/>
          </a:bodyPr>
          <a:p>
            <a:pPr marL="609480" indent="-609480">
              <a:lnSpc>
                <a:spcPct val="100000"/>
              </a:lnSpc>
              <a:spcBef>
                <a:spcPts val="7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should provide care? Who should be trained on caring for survivors?</a:t>
            </a:r>
            <a:endParaRPr b="0" lang="en-US" sz="3200" spc="-1" strike="noStrike">
              <a:solidFill>
                <a:srgbClr val="000000"/>
              </a:solidFill>
              <a:latin typeface="Constantia"/>
            </a:endParaRPr>
          </a:p>
          <a:p>
            <a:pPr marL="609480" indent="-609480">
              <a:lnSpc>
                <a:spcPct val="100000"/>
              </a:lnSpc>
              <a:spcBef>
                <a:spcPts val="7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should care be provided?</a:t>
            </a:r>
            <a:endParaRPr b="0" lang="en-US" sz="3200" spc="-1" strike="noStrike">
              <a:solidFill>
                <a:srgbClr val="000000"/>
              </a:solidFill>
              <a:latin typeface="Constantia"/>
            </a:endParaRPr>
          </a:p>
          <a:p>
            <a:pPr marL="609480" indent="-609480">
              <a:lnSpc>
                <a:spcPct val="100000"/>
              </a:lnSpc>
              <a:spcBef>
                <a:spcPts val="7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upplies are necessary?</a:t>
            </a:r>
            <a:endParaRPr b="0" lang="en-US" sz="3200" spc="-1" strike="noStrike">
              <a:solidFill>
                <a:srgbClr val="000000"/>
              </a:solidFill>
              <a:latin typeface="Constantia"/>
            </a:endParaRPr>
          </a:p>
          <a:p>
            <a:pPr marL="609480" indent="-609480">
              <a:lnSpc>
                <a:spcPct val="100000"/>
              </a:lnSpc>
              <a:spcBef>
                <a:spcPts val="7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could you coordinate with other actors?</a:t>
            </a:r>
            <a:endParaRPr b="0" lang="en-US" sz="3200" spc="-1" strike="noStrike">
              <a:solidFill>
                <a:srgbClr val="000000"/>
              </a:solidFill>
              <a:latin typeface="Constantia"/>
            </a:endParaRPr>
          </a:p>
        </p:txBody>
      </p:sp>
      <p:sp>
        <p:nvSpPr>
          <p:cNvPr id="21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B5BA-A2CC-473B-8D3C-2F6669818F3F}"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73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a2d97"/>
                </a:solidFill>
                <a:latin typeface="Times New Roman"/>
              </a:rPr>
              <a:t>Preparation of your clinic:*</a:t>
            </a:r>
            <a:endParaRPr b="0" lang="en-US" sz="3600" spc="-1" strike="noStrike">
              <a:solidFill>
                <a:srgbClr val="6a2d97"/>
              </a:solidFill>
              <a:latin typeface="Calibri"/>
            </a:endParaRPr>
          </a:p>
        </p:txBody>
      </p:sp>
      <p:sp>
        <p:nvSpPr>
          <p:cNvPr id="220" name=""/>
          <p:cNvSpPr txBox="1"/>
          <p:nvPr/>
        </p:nvSpPr>
        <p:spPr>
          <a:xfrm>
            <a:off x="457200" y="1752120"/>
            <a:ext cx="8229600" cy="4800600"/>
          </a:xfrm>
          <a:prstGeom prst="rect">
            <a:avLst/>
          </a:prstGeom>
          <a:noFill/>
          <a:ln w="0">
            <a:noFill/>
          </a:ln>
        </p:spPr>
        <p:txBody>
          <a:bodyPr anchor="t">
            <a:normAutofit/>
          </a:bodyPr>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Provide 24/7 servic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Prepare and translate all protocols and forms into the relevant local languag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Same sex/language trained staff, 1 support person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Don‘t let the survivor wait</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Ensure confidentiality, private room</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Ensure all equipment is ready in the room where you will provide the car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Ensure safety and security</a:t>
            </a: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Times New Roman"/>
              </a:rPr>
              <a:t>*adapted from the</a:t>
            </a:r>
            <a:r>
              <a:rPr b="0" lang="de-CH" sz="1600" spc="-1" strike="noStrike">
                <a:solidFill>
                  <a:srgbClr val="ff0000"/>
                </a:solidFill>
                <a:latin typeface="Times New Roman"/>
              </a:rPr>
              <a:t> </a:t>
            </a:r>
            <a:r>
              <a:rPr b="1" lang="en-US" sz="1600" spc="-1" strike="noStrike">
                <a:solidFill>
                  <a:srgbClr val="000000"/>
                </a:solidFill>
                <a:latin typeface="Times New Roman"/>
              </a:rPr>
              <a:t>UNHCR-UNFPA Clinical Management of Rape Survivors training</a:t>
            </a:r>
            <a:endParaRPr b="0" lang="en-US" sz="1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8DF4-2662-45B7-94F8-7EE239C4BB3E}"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a2d97"/>
                </a:solidFill>
                <a:latin typeface="Times New Roman"/>
              </a:rPr>
              <a:t>Minimum requirements:</a:t>
            </a:r>
            <a:endParaRPr b="0" lang="en-US" sz="3600" spc="-1" strike="noStrike">
              <a:solidFill>
                <a:srgbClr val="6a2d97"/>
              </a:solidFill>
              <a:latin typeface="Calibri"/>
            </a:endParaRPr>
          </a:p>
        </p:txBody>
      </p:sp>
      <p:sp>
        <p:nvSpPr>
          <p:cNvPr id="223" name=""/>
          <p:cNvSpPr txBox="1"/>
          <p:nvPr/>
        </p:nvSpPr>
        <p:spPr>
          <a:xfrm>
            <a:off x="1142640" y="1752480"/>
            <a:ext cx="6248520" cy="4648320"/>
          </a:xfrm>
          <a:prstGeom prst="rect">
            <a:avLst/>
          </a:prstGeom>
          <a:noFill/>
          <a:ln w="0">
            <a:noFill/>
          </a:ln>
        </p:spPr>
        <p:txBody>
          <a:bodyPr anchor="t">
            <a:normAutofit/>
          </a:bodyPr>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ropriate setting and staff</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quipment</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dications</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ministrative organisation</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24" name="Rectangle 12"/>
          <p:cNvSpPr/>
          <p:nvPr/>
        </p:nvSpPr>
        <p:spPr>
          <a:xfrm>
            <a:off x="752400" y="5916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BCCB-3658-4AB4-9704-66790CFA7C9D}"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a2d97"/>
                </a:solidFill>
                <a:latin typeface="Times New Roman"/>
              </a:rPr>
              <a:t>What services are needed for survivors?</a:t>
            </a:r>
            <a:endParaRPr b="0" lang="en-US" sz="3600" spc="-1" strike="noStrike">
              <a:solidFill>
                <a:srgbClr val="6a2d97"/>
              </a:solidFill>
              <a:latin typeface="Calibri"/>
            </a:endParaRPr>
          </a:p>
        </p:txBody>
      </p:sp>
      <p:sp>
        <p:nvSpPr>
          <p:cNvPr id="227" name=""/>
          <p:cNvSpPr txBox="1"/>
          <p:nvPr/>
        </p:nvSpPr>
        <p:spPr>
          <a:xfrm>
            <a:off x="457200" y="1676160"/>
            <a:ext cx="8229600" cy="5181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ment services: STI, emergency contraception, vaccination, etc.</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ral health services : mental health, surgery, obstetrics/gynecology, abortion, etc.</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V counselling and testing, PE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referral services: </a:t>
            </a:r>
            <a:endParaRPr b="0" lang="en-US" sz="2800" spc="-1" strike="noStrike">
              <a:solidFill>
                <a:srgbClr val="000000"/>
              </a:solidFill>
              <a:latin typeface="Constantia"/>
            </a:endParaRPr>
          </a:p>
          <a:p>
            <a:pPr lvl="1" marL="639720" indent="-24588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al services</a:t>
            </a:r>
            <a:endParaRPr b="0" lang="en-US" sz="2800" spc="-1" strike="noStrike">
              <a:solidFill>
                <a:srgbClr val="000000"/>
              </a:solidFill>
              <a:latin typeface="Constantia"/>
            </a:endParaRPr>
          </a:p>
          <a:p>
            <a:pPr lvl="1" marL="639720" indent="-24588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fe spaces – if available</a:t>
            </a:r>
            <a:endParaRPr b="0" lang="en-US" sz="2800" spc="-1" strike="noStrike">
              <a:solidFill>
                <a:srgbClr val="000000"/>
              </a:solidFill>
              <a:latin typeface="Constantia"/>
            </a:endParaRPr>
          </a:p>
          <a:p>
            <a:pPr lvl="1" marL="639720" indent="-24588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groups</a:t>
            </a:r>
            <a:endParaRPr b="0" lang="en-US" sz="2800" spc="-1" strike="noStrike">
              <a:solidFill>
                <a:srgbClr val="000000"/>
              </a:solidFill>
              <a:latin typeface="Constantia"/>
            </a:endParaRPr>
          </a:p>
          <a:p>
            <a:pPr lvl="1" marL="639720" indent="-24588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services</a:t>
            </a:r>
            <a:endParaRPr b="0" lang="en-US" sz="28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AFB5-15A6-4308-BA66-E76A563068DF}"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3:51:31Z</dcterms:created>
  <dc:creator>susie</dc:creator>
  <dc:description/>
  <dc:language>en-US</dc:language>
  <cp:lastModifiedBy>Emmanuelle Compingt</cp:lastModifiedBy>
  <dcterms:modified xsi:type="dcterms:W3CDTF">2010-10-21T22:00:04Z</dcterms:modified>
  <cp:revision>45</cp:revision>
  <dc:subject/>
  <dc:title>Module 9:</dc:title>
</cp:coreProperties>
</file>